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645C-422C-4A7E-BE6D-BE52DB44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55FC-6347-4B15-AAA6-AA449706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C1A5-528B-4906-930D-C823A2ADE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22B9-F6F2-4D71-9CFF-4C44CED9D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06FA-076D-4A8B-AC14-662D949D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E8CA-B329-4B4E-A8D5-98493E7E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B0D0-B58B-496A-B29E-3B2322A2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2CA8-0489-4ED9-A40A-40B092AF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D1B5-F170-4A92-A177-8DD29A1E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ADDE-B273-4D69-A3FD-84F83EE3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DADF-982E-4D0D-9155-8B44ABEA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C23C-49A3-48AC-8E18-CBF82874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9105-50BF-45BA-8878-BD2E64B5F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slide" Target="slide52.xml"/><Relationship Id="rId6" Type="http://schemas.openxmlformats.org/officeDocument/2006/relationships/slide" Target="slide53.xml"/><Relationship Id="rId7" Type="http://schemas.openxmlformats.org/officeDocument/2006/relationships/slide" Target="slide54.xml"/><Relationship Id="rId8" Type="http://schemas.openxmlformats.org/officeDocument/2006/relationships/slide" Target="slide55.xml"/><Relationship Id="rId9" Type="http://schemas.openxmlformats.org/officeDocument/2006/relationships/slide" Target="slide56.xml"/><Relationship Id="rId10" Type="http://schemas.openxmlformats.org/officeDocument/2006/relationships/slide" Target="slide57.xml"/><Relationship Id="rId11" Type="http://schemas.openxmlformats.org/officeDocument/2006/relationships/slide" Target="slide58.xml"/><Relationship Id="rId12" Type="http://schemas.openxmlformats.org/officeDocument/2006/relationships/slide" Target="slide59.xml"/><Relationship Id="rId13" Type="http://schemas.openxmlformats.org/officeDocument/2006/relationships/slide" Target="slide60.xml"/><Relationship Id="rId14" Type="http://schemas.openxmlformats.org/officeDocument/2006/relationships/slide" Target="slide61.xml"/><Relationship Id="rId15" Type="http://schemas.openxmlformats.org/officeDocument/2006/relationships/slide" Target="slide62.xml"/><Relationship Id="rId16" Type="http://schemas.openxmlformats.org/officeDocument/2006/relationships/slide" Target="slide63.xml"/><Relationship Id="rId17" Type="http://schemas.openxmlformats.org/officeDocument/2006/relationships/slide" Target="slide64.xml"/><Relationship Id="rId18" Type="http://schemas.openxmlformats.org/officeDocument/2006/relationships/slide" Target="slide65.xml"/><Relationship Id="rId19" Type="http://schemas.openxmlformats.org/officeDocument/2006/relationships/slide" Target="slide66.xml"/><Relationship Id="rId20" Type="http://schemas.openxmlformats.org/officeDocument/2006/relationships/slide" Target="slide67.xml"/><Relationship Id="rId21" Type="http://schemas.openxmlformats.org/officeDocument/2006/relationships/slide" Target="slide68.xml"/><Relationship Id="rId22" Type="http://schemas.openxmlformats.org/officeDocument/2006/relationships/slide" Target="slide69.xml"/><Relationship Id="rId23" Type="http://schemas.openxmlformats.org/officeDocument/2006/relationships/slide" Target="slide70.xml"/><Relationship Id="rId24" Type="http://schemas.openxmlformats.org/officeDocument/2006/relationships/slide" Target="slide71.xml"/><Relationship Id="rId25" Type="http://schemas.openxmlformats.org/officeDocument/2006/relationships/slide" Target="slide72.xml"/><Relationship Id="rId26" Type="http://schemas.openxmlformats.org/officeDocument/2006/relationships/slide" Target="slide73.xml"/><Relationship Id="rId27" Type="http://schemas.openxmlformats.org/officeDocument/2006/relationships/slide" Target="slide74.xml"/><Relationship Id="rId28" Type="http://schemas.openxmlformats.org/officeDocument/2006/relationships/slide" Target="slide75.xml"/><Relationship Id="rId29" Type="http://schemas.openxmlformats.org/officeDocument/2006/relationships/slide" Target="slide76.xml"/><Relationship Id="rId30" Type="http://schemas.openxmlformats.org/officeDocument/2006/relationships/slide" Target="slide77.xml"/><Relationship Id="rId31" Type="http://schemas.openxmlformats.org/officeDocument/2006/relationships/slide" Target="slide78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23.xml"/><Relationship Id="rId17" Type="http://schemas.openxmlformats.org/officeDocument/2006/relationships/slide" Target="slide24.xml"/><Relationship Id="rId18" Type="http://schemas.openxmlformats.org/officeDocument/2006/relationships/slide" Target="slide25.xml"/><Relationship Id="rId19" Type="http://schemas.openxmlformats.org/officeDocument/2006/relationships/slide" Target="slide26.xml"/><Relationship Id="rId20" Type="http://schemas.openxmlformats.org/officeDocument/2006/relationships/slide" Target="slide27.xml"/><Relationship Id="rId21" Type="http://schemas.openxmlformats.org/officeDocument/2006/relationships/slide" Target="slide28.xml"/><Relationship Id="rId22" Type="http://schemas.openxmlformats.org/officeDocument/2006/relationships/slide" Target="slide29.xml"/><Relationship Id="rId23" Type="http://schemas.openxmlformats.org/officeDocument/2006/relationships/slide" Target="slide30.xml"/><Relationship Id="rId24" Type="http://schemas.openxmlformats.org/officeDocument/2006/relationships/slide" Target="slide31.xml"/><Relationship Id="rId25" Type="http://schemas.openxmlformats.org/officeDocument/2006/relationships/slide" Target="slide32.xml"/><Relationship Id="rId26" Type="http://schemas.openxmlformats.org/officeDocument/2006/relationships/slide" Target="slide33.xml"/><Relationship Id="rId27" Type="http://schemas.openxmlformats.org/officeDocument/2006/relationships/slide" Target="slide35.xml"/><Relationship Id="rId28" Type="http://schemas.openxmlformats.org/officeDocument/2006/relationships/slide" Target="slide36.xml"/><Relationship Id="rId29" Type="http://schemas.openxmlformats.org/officeDocument/2006/relationships/slide" Target="slide37.xml"/><Relationship Id="rId30" Type="http://schemas.openxmlformats.org/officeDocument/2006/relationships/slide" Target="slide38.xml"/><Relationship Id="rId31" Type="http://schemas.openxmlformats.org/officeDocument/2006/relationships/slide" Target="slide39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écrit s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tableau avec…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1066680" y="1447920"/>
            <a:ext cx="67057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liquide da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styl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143000" y="1066680"/>
            <a:ext cx="723888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unition aprè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cou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838080" y="990720"/>
            <a:ext cx="75438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mauva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élè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1143000" y="1143000"/>
            <a:ext cx="716292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sépar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tre la cou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le paysa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914400" y="1143000"/>
            <a:ext cx="71629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je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’on jou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ns la c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685800" y="838080"/>
            <a:ext cx="77724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particu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font l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rre de la c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838080" y="990720"/>
            <a:ext cx="73915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 que les élèv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nt autour de Climbi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ns la c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762120" y="914400"/>
            <a:ext cx="761976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est dans le seui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 début de la nouvell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838080" y="838080"/>
            <a:ext cx="746784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auteur 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« Le Symbole 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219320" y="1143000"/>
            <a:ext cx="68580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l’éco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1447920" y="1143000"/>
            <a:ext cx="632448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ys 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Symbole”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1295280" y="1371600"/>
            <a:ext cx="655344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Année qu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ays du Symbo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gagné l’indépenda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066680" y="1143000"/>
            <a:ext cx="678204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ys de l’auteu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“Pag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Ecriture”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762120" y="838080"/>
            <a:ext cx="777240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teur 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« Page d’écriture 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371600" y="1219320"/>
            <a:ext cx="624852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mauva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ê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1295280" y="1371600"/>
            <a:ext cx="647712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anim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uvert de plu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1371600" y="914400"/>
            <a:ext cx="64771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se trouv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étoi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1143000" y="1143000"/>
            <a:ext cx="723888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e barriè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tre l’extérie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une mais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l’intérie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1143000" y="1219320"/>
            <a:ext cx="66294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carpement littor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û à l’action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m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914400" y="838080"/>
            <a:ext cx="739152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nonyme 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Être à l’affû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1371600" y="1828800"/>
            <a:ext cx="609588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ns la c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066680" y="1219320"/>
            <a:ext cx="72392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 promen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ès lente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143000" y="1295280"/>
            <a:ext cx="716292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ire sembla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2"/>
          <p:cNvSpPr txBox="1"/>
          <p:nvPr/>
        </p:nvSpPr>
        <p:spPr>
          <a:xfrm>
            <a:off x="914400" y="838080"/>
            <a:ext cx="746748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« nettoyer 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arque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914400" y="914400"/>
            <a:ext cx="74674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mo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signifi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« donner 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1066680" y="1981080"/>
            <a:ext cx="72392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èse beaucou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990720" y="2209680"/>
            <a:ext cx="70866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beaucou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s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838080" y="1066680"/>
            <a:ext cx="754380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eaucou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838080" y="1676520"/>
            <a:ext cx="73915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rrifi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914400" y="990720"/>
            <a:ext cx="754380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raire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ide; il n’y a plu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espac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143000" y="2362320"/>
            <a:ext cx="68580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ns l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uliss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2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21" name="TADA.WAV" descr=""/>
          <p:cNvPicPr/>
          <p:nvPr/>
        </p:nvPicPr>
        <p:blipFill>
          <a:blip r:embed="rId5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617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685800" y="685800"/>
            <a:ext cx="8001000" cy="563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Symbo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838080" y="914400"/>
            <a:ext cx="70866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Gran Id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écritu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1752480" y="1828800"/>
            <a:ext cx="61722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ocabulai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ça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1143000" y="1143000"/>
            <a:ext cx="69343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scelann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3049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ymbol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dé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ag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vocabulai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Où ça?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WordArt 7"/>
          <p:cNvSpPr txBox="1"/>
          <p:nvPr/>
        </p:nvSpPr>
        <p:spPr>
          <a:xfrm>
            <a:off x="77724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scelanné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4"/>
          <p:cNvSpPr/>
          <p:nvPr/>
        </p:nvSpPr>
        <p:spPr>
          <a:xfrm>
            <a:off x="77760" y="57942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5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6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7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8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9"/>
          <p:cNvSpPr/>
          <p:nvPr/>
        </p:nvSpPr>
        <p:spPr>
          <a:xfrm>
            <a:off x="160200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0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1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2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3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4"/>
          <p:cNvSpPr/>
          <p:nvPr/>
        </p:nvSpPr>
        <p:spPr>
          <a:xfrm>
            <a:off x="312588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5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6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7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8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59"/>
          <p:cNvSpPr/>
          <p:nvPr/>
        </p:nvSpPr>
        <p:spPr>
          <a:xfrm>
            <a:off x="46497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0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2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3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61833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5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6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7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8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9"/>
          <p:cNvSpPr/>
          <p:nvPr/>
        </p:nvSpPr>
        <p:spPr>
          <a:xfrm>
            <a:off x="770724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70">
            <a:hlinkClick r:id="rId32" action="ppaction://hlinksldjump"/>
          </p:cNvPr>
          <p:cNvSpPr/>
          <p:nvPr/>
        </p:nvSpPr>
        <p:spPr>
          <a:xfrm>
            <a:off x="8763120" y="6477120"/>
            <a:ext cx="228600" cy="152280"/>
          </a:xfrm>
          <a:custGeom>
            <a:avLst/>
            <a:gdLst>
              <a:gd name="textAreaLeft" fmla="*/ 70560 w 228600"/>
              <a:gd name="textAreaRight" fmla="*/ 158040 w 22860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1143000" y="990720"/>
            <a:ext cx="739152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q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imbi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« le symbole 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838080" y="990720"/>
            <a:ext cx="769644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Climbi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« le symbole 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no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689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685800" y="990720"/>
            <a:ext cx="77724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cription d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mbo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990720" y="914400"/>
            <a:ext cx="739116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la fin  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asses, le Porte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 symbole doit…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914400" y="11430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réaction d ’Akrom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il a reç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« le symbole 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2"/>
          <p:cNvSpPr txBox="1"/>
          <p:nvPr/>
        </p:nvSpPr>
        <p:spPr>
          <a:xfrm>
            <a:off x="762120" y="838080"/>
            <a:ext cx="777240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étier du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è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Bint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2"/>
          <p:cNvSpPr txBox="1"/>
          <p:nvPr/>
        </p:nvSpPr>
        <p:spPr>
          <a:xfrm>
            <a:off x="838080" y="838080"/>
            <a:ext cx="7696440" cy="541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blè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Sod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762120" y="838080"/>
            <a:ext cx="769608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e 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çon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l’éco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609480" y="533520"/>
            <a:ext cx="7620120" cy="579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gr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dé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1143000" y="1066680"/>
            <a:ext cx="716292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ut le monde a le dro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être éduqu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ns un esprit de …(2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838080" y="990720"/>
            <a:ext cx="723924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maît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t en tra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enseign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lle matière?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Verb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219320" y="914400"/>
            <a:ext cx="68580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enfant ve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Être sauvé par…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>
            <a:off x="1143000" y="1066680"/>
            <a:ext cx="662940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enfant a cach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oiseau où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762120" y="838080"/>
            <a:ext cx="73152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’est-ce qu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’écroul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anquilleme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2"/>
          <p:cNvSpPr txBox="1"/>
          <p:nvPr/>
        </p:nvSpPr>
        <p:spPr>
          <a:xfrm>
            <a:off x="838080" y="914400"/>
            <a:ext cx="75438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 redevi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ra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la fi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2"/>
          <p:cNvSpPr txBox="1"/>
          <p:nvPr/>
        </p:nvSpPr>
        <p:spPr>
          <a:xfrm>
            <a:off x="762120" y="838080"/>
            <a:ext cx="7696080" cy="541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 moqu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qq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1143000" y="2286000"/>
            <a:ext cx="73915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spicie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1295280" y="2362320"/>
            <a:ext cx="670572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ttre dan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endroit secre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1219320" y="1219320"/>
            <a:ext cx="693396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mber en pièces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Être détru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2"/>
          <p:cNvSpPr txBox="1"/>
          <p:nvPr/>
        </p:nvSpPr>
        <p:spPr>
          <a:xfrm>
            <a:off x="914400" y="990720"/>
            <a:ext cx="75438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synony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parti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2"/>
          <p:cNvSpPr txBox="1"/>
          <p:nvPr/>
        </p:nvSpPr>
        <p:spPr>
          <a:xfrm>
            <a:off x="533520" y="1219320"/>
            <a:ext cx="82296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sont l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arç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 débu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762120" y="914400"/>
            <a:ext cx="76960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djectif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762120" y="1295280"/>
            <a:ext cx="761976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est 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recteur a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ébu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685800" y="914400"/>
            <a:ext cx="792468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Climbi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int-i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rmir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685800" y="838080"/>
            <a:ext cx="777240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 e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frère d’Akroma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ils parl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’Zima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838080" y="990720"/>
            <a:ext cx="754380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 vont-ils les garç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i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’éloignent de Climbié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2"/>
          <p:cNvSpPr txBox="1"/>
          <p:nvPr/>
        </p:nvSpPr>
        <p:spPr>
          <a:xfrm>
            <a:off x="1066680" y="1371600"/>
            <a:ext cx="708660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 feint Climbi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il retour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l’écol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762120" y="838080"/>
            <a:ext cx="75438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qui parla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kroman qu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imbié lui a refil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Symbol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2"/>
          <p:cNvSpPr txBox="1"/>
          <p:nvPr/>
        </p:nvSpPr>
        <p:spPr>
          <a:xfrm>
            <a:off x="685800" y="914400"/>
            <a:ext cx="77724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numéro le plu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nd dan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« Page d’écriture 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2"/>
          <p:cNvSpPr txBox="1"/>
          <p:nvPr/>
        </p:nvSpPr>
        <p:spPr>
          <a:xfrm>
            <a:off x="609480" y="838080"/>
            <a:ext cx="800100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vitr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deviennent…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Page d’Ecriture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2"/>
          <p:cNvSpPr txBox="1"/>
          <p:nvPr/>
        </p:nvSpPr>
        <p:spPr>
          <a:xfrm>
            <a:off x="838080" y="914400"/>
            <a:ext cx="762012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upitr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deviennent…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Page d’Ecriture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8" name="WordArt 3"/>
          <p:cNvSpPr txBox="1"/>
          <p:nvPr/>
        </p:nvSpPr>
        <p:spPr>
          <a:xfrm>
            <a:off x="1295280" y="4572000"/>
            <a:ext cx="64771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L’Afrique francophone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À l’écol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ans la cou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ans l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ouliss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om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verb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djectif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4">
            <a:hlinkClick r:id="rId3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2"/>
          <p:cNvSpPr txBox="1"/>
          <p:nvPr/>
        </p:nvSpPr>
        <p:spPr>
          <a:xfrm>
            <a:off x="533520" y="914400"/>
            <a:ext cx="800100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3 pay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rancophones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n Afrique e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eurs capital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4320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2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akar, Sénég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Yamoussokra, Côte d’Ivoi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Bangui,  Rép. Centrafrician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unis, Tunisi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abat, Maroc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371600" y="1600200"/>
            <a:ext cx="70866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les élèv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t as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Administrator</cp:lastModifiedBy>
  <dcterms:modified xsi:type="dcterms:W3CDTF">2014-05-29T18:55:07Z</dcterms:modified>
  <cp:revision>146</cp:revision>
  <dc:subject/>
  <dc:title>No Slide Title</dc:title>
</cp:coreProperties>
</file>